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CD76-94F0-4AC0-AEA1-4541919C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732-948F-4D53-ACAE-D01447A0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06E-6010-4202-B022-332E71FA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9AA-5693-4F2D-935A-2C086827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E096-131C-432D-BA22-5026CDD3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37B6-E896-4B26-9E66-2F087463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5D8C-A7BE-4A72-B609-BCEED659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247F-8F9B-417C-AFD9-492FF61C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098D-E680-470D-B161-4851605E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D0DE-DE9C-4314-B676-F641E62B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7474-DB9F-4653-BA98-66B51347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CAC5-BA6B-4BB3-AABA-A9B76BAC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4261-C5F7-43A4-AB6E-914E21C4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0662-3FD6-4183-8CBB-20C7A1DD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A2A9-76CF-4C2A-8DBE-14697B06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8210-849E-4F52-A412-94A4B72B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0436-38E7-417B-93F1-82434142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97A-33C8-4AB2-A783-5139B971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7FC3-1FB0-49DB-A12D-706EA0A3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843-BE52-463B-8E73-48113543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D304-5041-451A-A55E-AC88EEE7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98A-101D-4159-87EF-1C32A4A3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FC76-AFB5-48B9-A571-B4F90AB3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8E8-2ED1-4335-A2AF-0E865463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7942-E606-47A8-A080-8A96838B0A8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977F-A2FE-4076-A961-A9EDB9A139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erve the motion of a bowling ball on a c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and explain all observ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erve and attempt some “magic” tric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and explain all observ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Lesson #24</a:t>
            </a:r>
            <a:br>
              <a:rPr sz="2400"/>
            </a:b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Topic: Mass vs. Weight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763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the difference between mass and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normal fo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Net fo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31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562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 113 #55, 57, 58, 59, 63, 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4572000"/>
            <a:ext cx="8534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en you go to the moon, what changes mass or weight?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y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hat is your </a:t>
            </a: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mass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on the moon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9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e as that on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k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/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what it is on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’m not sure, but  I think it’s less than it is on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2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93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Mass vs. Weight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002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1066680"/>
            <a:ext cx="82296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ass of an object remains constant no matter the location of the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eight of an object depends upon the gravitational field that object is loca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A person’s mass is the same on earth as it is on the moon. A person’s weight on the moon is 1/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what it is on ear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eigh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a force due to a gravitational pu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eight of an object on Earth can be found us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895480" y="5410080"/>
                <a:ext cx="22860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eight and Normal Force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6002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066680"/>
            <a:ext cx="82296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avitational pull of the earth acts downward on all objec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ever, the surface of the earth pushes back upward with an equal amount of force (most of the time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ormal For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A force perpendicular (normal) to the contact surfa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s: The ground pushing back up on your feet. The wall pushing back against your h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Net Force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6002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066680"/>
            <a:ext cx="82296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et For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The vector sum of all forces acting on an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Net force will cause a change in an objects state of mo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net force will cause no chan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object at rest has zero net force acting on i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object moving at constant speed in a straight line has zero net force acting o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non-zero net force will cause an object to speed up, slow down, or change dire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ormal force is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09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495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force that always counter acts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force that is always directed upw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force that acts perpendicular to any contact su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force that causes objects to change their state of mo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2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13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f8a500"/>
                </a:gs>
                <a:gs pos="100000">
                  <a:srgbClr val="8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What is the weight of a person with a mass of 70kg?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16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k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0k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9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20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f8a500"/>
                </a:gs>
                <a:gs pos="100000">
                  <a:srgbClr val="8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What is the net force acting on a person that has a mass of 70kg when standing on the ground?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23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0k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k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6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27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f8a500"/>
                </a:gs>
                <a:gs pos="100000">
                  <a:srgbClr val="8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What is the normal force acting on a 70kg person  when standing on the ground?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30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k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0k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3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34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f8a500"/>
                </a:gs>
                <a:gs pos="100000">
                  <a:srgbClr val="8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What is the normal force acting on a 70kg person in free fall after jumping out of an airplane? What is the net force acting on him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3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114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N , 70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0N, 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0N, 70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N, 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0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41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f8a500"/>
                </a:gs>
                <a:gs pos="100000">
                  <a:srgbClr val="8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Lesson #23</a:t>
            </a:r>
            <a:br>
              <a:rPr sz="2400"/>
            </a:b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Topic: </a:t>
            </a: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Intro to Newton and Inertia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inertia and describe examples of iner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30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6386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ook Problems p112 #41, 42, 43, 5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80988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at happens when you’re crazy school bus driver suddenly slams on the brakes to stop for a student that they almost drove past? Why does this occur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What is the net force acting on a 70kg person jogging at a constant speed of 3m/s?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44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1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10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7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48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f8a500"/>
                </a:gs>
                <a:gs pos="100000">
                  <a:srgbClr val="8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elephone Pol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2388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are working for the telephone company putting up new poles. The pole you are putting up now has one wire headed 20° W of N with 2200N of tension. It has another wire headed directly south with 2400N of tension. Your job is to determine much tension and in what direction should a support wire to the ground be placed so that there is no net force acting on the pol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481880" y="2133720"/>
            <a:ext cx="1814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Lesson #25</a:t>
            </a:r>
            <a:br>
              <a:rPr sz="2400"/>
            </a:b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Topic: Net Force and Free body diagrams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763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w a free body vector dia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vector addition rules to find the magnitude and direction net for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/1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5867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Net Force” handout due tomor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45720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is the weight of a 1kg wood block? What is its mas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eight of a 1kg wood block? What is its mas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59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N, 1k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N, 1k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kg, 1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kg, 1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2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63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f8a500"/>
                </a:gs>
                <a:gs pos="100000">
                  <a:srgbClr val="8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Free Body Diagram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w a wood block sitting on a t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w all forces acting on the blo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ne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uld a block moving at constant speed look any differ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Free Body Diagram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 1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ne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n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224080" y="990720"/>
            <a:ext cx="4405320" cy="2286000"/>
            <a:chOff x="2224080" y="990720"/>
            <a:chExt cx="4405320" cy="2286000"/>
          </a:xfrm>
        </p:grpSpPr>
        <p:sp>
          <p:nvSpPr>
            <p:cNvPr id="270" name=""/>
            <p:cNvSpPr/>
            <p:nvPr/>
          </p:nvSpPr>
          <p:spPr>
            <a:xfrm>
              <a:off x="4038480" y="1828800"/>
              <a:ext cx="990720" cy="609480"/>
            </a:xfrm>
            <a:prstGeom prst="rect">
              <a:avLst/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72000" y="2438280"/>
              <a:ext cx="0" cy="83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4572000" y="99072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05320" y="129528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=10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48320" y="266688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=10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29200" y="2133720"/>
              <a:ext cx="129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34120" y="1600200"/>
              <a:ext cx="129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= 12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276720" y="2133720"/>
              <a:ext cx="761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24080" y="190512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4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= 7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819520" y="3657600"/>
            <a:ext cx="3962160" cy="2819520"/>
            <a:chOff x="2819520" y="3657600"/>
            <a:chExt cx="3962160" cy="2819520"/>
          </a:xfrm>
        </p:grpSpPr>
        <p:sp>
          <p:nvSpPr>
            <p:cNvPr id="280" name=""/>
            <p:cNvSpPr/>
            <p:nvPr/>
          </p:nvSpPr>
          <p:spPr>
            <a:xfrm>
              <a:off x="4038480" y="4572000"/>
              <a:ext cx="990720" cy="609480"/>
            </a:xfrm>
            <a:prstGeom prst="rect">
              <a:avLst/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543560" y="365760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0" y="5181480"/>
              <a:ext cx="0" cy="12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29200" y="487692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3657600" y="472428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895120" y="510552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48320" y="396252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=10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48320" y="571500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=13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95480" y="5181480"/>
              <a:ext cx="106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4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=12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19520" y="426708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5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=3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86400" y="495288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=15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Free Body Diagram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ple 3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net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ple 4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ne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= 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4038480" y="1828800"/>
            <a:ext cx="99072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572000" y="99036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129528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10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21337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34120" y="16002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10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38480" y="3962520"/>
            <a:ext cx="99072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426708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42670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327672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10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496728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15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257800" y="388620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15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3428640" y="320004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504960" y="42670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45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Free Body Diagram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5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4038480" y="2286000"/>
            <a:ext cx="99072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3657600" y="1371240"/>
            <a:ext cx="914400" cy="1219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71800" y="167652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20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572000" y="1447560"/>
            <a:ext cx="990720" cy="1143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57800" y="167652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20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00400" y="259092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2133720"/>
            <a:ext cx="68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52680" y="2209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6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952880" y="2209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6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2971800"/>
            <a:ext cx="70866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lit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to x and y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 x components and y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5486400"/>
            <a:ext cx="99072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72000" y="4647960"/>
            <a:ext cx="990720" cy="11430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3581280" y="4647960"/>
            <a:ext cx="914400" cy="11430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609588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Free Body Diagram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 6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3962520" y="1628640"/>
            <a:ext cx="990360" cy="60984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471840" y="1933560"/>
            <a:ext cx="99072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228600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10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481640" y="775800"/>
            <a:ext cx="990360" cy="1143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86200" y="109548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15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193356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48120" y="117144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3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76920" y="1600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6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66920" y="3733920"/>
            <a:ext cx="99036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900080" y="2895120"/>
            <a:ext cx="990720" cy="11430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914400" y="4052880"/>
            <a:ext cx="985680" cy="4428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248520" y="3657600"/>
            <a:ext cx="99036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781680" y="2971800"/>
            <a:ext cx="0" cy="990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943600" y="3962520"/>
            <a:ext cx="838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5710320"/>
            <a:ext cx="99072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619520" y="5038560"/>
            <a:ext cx="0" cy="99072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733920" y="6014880"/>
            <a:ext cx="83808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3733920" y="5143680"/>
            <a:ext cx="838080" cy="838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05200" y="494820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5638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Lesson #26</a:t>
            </a:r>
            <a:br>
              <a:rPr sz="2400"/>
            </a:b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Topic: Lab: Net force and angles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dict the magnitude and direction of an unknown force to create zero net fo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/8/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5029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 “Ch 4 Study Guide” due Fri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365760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Lab Tas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Predict the magnitude and direction of the unknown force such that there will be no net force acting on the ring. (The peg is in the center of the ring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Newton’s Laws of Motion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aac Newton developed his laws of motion in the mid to late 1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 by the time he was 24 years ol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laws and ideas were the creation of physics and calculu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laws explain and predict motion for all objects; from sub atomic particles to the stars and galax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re now studying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bjects move rather than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y mo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1184400"/>
            <a:ext cx="403848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sk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sk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sk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sk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514240" y="1184400"/>
            <a:ext cx="2514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N @ 0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N @ 90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N @ 45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N @ 315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N @ 0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N @ 270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N @ 0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N @ 155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5257800" y="1108080"/>
            <a:ext cx="3276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nd the magnitude and direction of the third unknown force that will create zero net for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47920" y="196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washer = 0.5 Newt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1184400"/>
            <a:ext cx="403848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sk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sk 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sk 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sk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514240" y="914400"/>
            <a:ext cx="3505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N @ 0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N @ 90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N @ 180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N @ 0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N @ 45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N @ 315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N @ 0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N @ 97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N @ 202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N @ 16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N @ 92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N @ 349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990720"/>
            <a:ext cx="3352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nd the magnitude and direction of the fourth unknown force that will create zero net for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47920" y="196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washer = 0.5 Newt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elephone Pol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w your telephone pole from an aerial view and all of the forces acting on the po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 all your work in calculating where to put the support wi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how you explained your solution to your boss when he questioned your decision on where to put the wi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Newton’s First Law (Law of Inertia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bject at rest will remain at rest and an object in motion will remain in motion in a straight line with constant speed unless acted on by a net forc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Books on a bus seat will remain in mo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Dishes on a table will remain at r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Your coffee mug spills in your car as you go around a sharp turn at constant spe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ich of the following is 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false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4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object moving in a straight line will remain in a straight 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object at rest will remain at r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object moving in a curved path will remain moving in a curved pa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object moving in a curved path must have a force acting on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7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68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sh and empty wagon and observe its resistance to mo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sh the same wagon with your partner sitting in it and observe its resistance to mo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p the empty wagon and observe its resistance to stop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p the wagon with a partner in it and observe its resistance to stop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Newton’s First Law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ert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The tendency for all objects with mass to resist a change in their state of mo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 is the measure of iner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re massive an object, the more it will resist a change in its mo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r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A push or a pull required to change an objects motion. Measured in units of Newtons (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hich of the following has the most inertia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5" name="TPChart"/>
          <p:cNvGraphicFramePr/>
          <p:nvPr/>
        </p:nvGraphicFramePr>
        <p:xfrm>
          <a:off x="4267080" y="1650960"/>
          <a:ext cx="481176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50960"/>
                    <a:ext cx="481176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70kg person running at 5m/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0.02kg bullet flying at 450m/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300kg rhino charging at 3m/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2000kg elephant taking a n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8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179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f8a500"/>
                </a:gs>
                <a:gs pos="100000">
                  <a:srgbClr val="8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 your Mass (in kg) and Weight (in lbs) from the scale in the front of the ro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difference between these two number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difference between mass and weight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they mean the same th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7:39:45Z</dcterms:created>
  <dc:creator>End User</dc:creator>
  <dc:description/>
  <dc:language>en-US</dc:language>
  <cp:lastModifiedBy>Network User</cp:lastModifiedBy>
  <dcterms:modified xsi:type="dcterms:W3CDTF">2008-07-10T13:43:57Z</dcterms:modified>
  <cp:revision>58</cp:revision>
  <dc:subject/>
  <dc:title>Lesson #1 8/29/06 </dc:title>
</cp:coreProperties>
</file>